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013-A99D-47D4-AD43-1692E035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3BD-46E3-43F8-BA1A-D5A575B2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CF8-2D75-40EB-A7EE-797B9C31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56F-E0FA-4E31-9700-C9E6122A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713-ABDC-4D56-A5F3-D0DF7904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3C6-7AE3-463B-A3D3-3C8CDB95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495-C59D-4AB5-B8E6-53BF4EEE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D24-7C4B-4071-B947-9FEFCFF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CA5-0614-4F0D-84BA-4D552569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B31-9368-4C10-883D-47094B8D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080-D3E9-423E-85B8-FF994264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F5A-93AD-4711-980A-0EAED1BB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A0E7-C8C0-4525-AA77-0B00B614B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lasstools.net/my/dustbin78792types_of_geography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ysgol-rhyngrwyd.wikispaces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ysgol-rhyngrwyd.wikispaces.com/" TargetMode="External"/><Relationship Id="rId2" Type="http://schemas.openxmlformats.org/officeDocument/2006/relationships/hyperlink" Target="http://ysgol-rhyngrwyd.wikispaces.com/" TargetMode="External"/><Relationship Id="rId3" Type="http://schemas.openxmlformats.org/officeDocument/2006/relationships/hyperlink" Target="http://lindym.wordpress.com/" TargetMode="External"/><Relationship Id="rId4" Type="http://schemas.openxmlformats.org/officeDocument/2006/relationships/hyperlink" Target="http://lindym.wordpress.com/" TargetMode="External"/><Relationship Id="rId5" Type="http://schemas.openxmlformats.org/officeDocument/2006/relationships/hyperlink" Target="http://lindym.wordpress.com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Li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here to do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2137" t="39777" r="66049" b="37369"/>
          <a:stretch/>
        </p:blipFill>
        <p:spPr>
          <a:xfrm>
            <a:off x="6659640" y="2349360"/>
            <a:ext cx="1544400" cy="216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35640" y="333360"/>
            <a:ext cx="3527280" cy="1836360"/>
          </a:xfrm>
          <a:prstGeom prst="cloudCallout">
            <a:avLst>
              <a:gd name="adj1" fmla="val 4134"/>
              <a:gd name="adj2" fmla="val 65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hat good an impression, but close-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01C-F2AA-4C99-A362-529C6E746D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PHYSICAL</a:t>
            </a:r>
            <a:r>
              <a:rPr b="1" lang="en-GB" sz="3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agine a world without hum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ould it be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 of as many thing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would still be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EEC-54AF-4AC1-8BE8-7534A597B1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PHYSICAL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world without humans would still have life, it would still change shape, natural forces would still work, like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canoes, earthquakes, tsunamis, storms, fl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vers, oceans, glac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il, water,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, animals, veg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F29-F6D2-4671-A8E3-EA29497C3E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A WORLD WITHOUT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thespacereview.com/archive/657a.jpg"/>
          <p:cNvPicPr/>
          <p:nvPr/>
        </p:nvPicPr>
        <p:blipFill>
          <a:blip r:embed="rId1"/>
          <a:stretch/>
        </p:blipFill>
        <p:spPr>
          <a:xfrm>
            <a:off x="2890800" y="1274760"/>
            <a:ext cx="3252960" cy="215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ages.livescience.com/images/050531_colima_volcano_04.jpg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surfersvillage.com/gal/pictures/StormCloud3.jpg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DB1-B5D0-44DB-BDA0-7C48253B2B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Arial Black"/>
              </a:rPr>
              <a:t>HUMAN</a:t>
            </a:r>
            <a:r>
              <a:rPr b="1" lang="en-GB" sz="32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1" lang="en-GB" sz="3600" spc="-1" strike="noStrike">
                <a:solidFill>
                  <a:srgbClr val="0070c0"/>
                </a:solidFill>
                <a:latin typeface="Arial Black"/>
              </a:rPr>
              <a:t>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have an enormous effect on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our main activ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an you think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B8D-6CE7-4374-A289-81CD8A337D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Arial Black"/>
              </a:rPr>
              <a:t>HUMAN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ur main activiti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lements and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types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ED1-9FA9-4787-B0BC-8657D303C7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Arial Black"/>
              </a:rPr>
              <a:t>HUMA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crea.co.uk/images/fcc/tractor.jpg"/>
          <p:cNvPicPr/>
          <p:nvPr/>
        </p:nvPicPr>
        <p:blipFill>
          <a:blip r:embed="rId1"/>
          <a:srcRect l="0" t="13705" r="0" b="10877"/>
          <a:stretch/>
        </p:blipFill>
        <p:spPr>
          <a:xfrm>
            <a:off x="2268360" y="4221000"/>
            <a:ext cx="2981520" cy="237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groups.csail.mit.edu/medg/people/chris/taiwan-traffic.jpg"/>
          <p:cNvPicPr/>
          <p:nvPr/>
        </p:nvPicPr>
        <p:blipFill>
          <a:blip r:embed="rId2"/>
          <a:stretch/>
        </p:blipFill>
        <p:spPr>
          <a:xfrm>
            <a:off x="6227640" y="3789360"/>
            <a:ext cx="271476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www.tribuneindia.com/2005/specials/tribune_125/electric%20energy.jpg"/>
          <p:cNvPicPr/>
          <p:nvPr/>
        </p:nvPicPr>
        <p:blipFill>
          <a:blip r:embed="rId3"/>
          <a:stretch/>
        </p:blipFill>
        <p:spPr>
          <a:xfrm>
            <a:off x="179280" y="836640"/>
            <a:ext cx="2714760" cy="335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www.webbaviation.co.uk/industrial/lancun19.jpg"/>
          <p:cNvPicPr/>
          <p:nvPr/>
        </p:nvPicPr>
        <p:blipFill>
          <a:blip r:embed="rId4"/>
          <a:stretch/>
        </p:blipFill>
        <p:spPr>
          <a:xfrm>
            <a:off x="5076720" y="765000"/>
            <a:ext cx="288144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D9B-FBF1-4BD7-AC2E-F5A09D1BC6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02b"/>
                </a:solidFill>
                <a:latin typeface="Arial Black"/>
              </a:rPr>
              <a:t>ENVIRONMENTAL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a precious, delicate place – all activities have an effect on the environment in good ways and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can you think of for 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o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871-FC4A-440A-BEB2-4381BE59F0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ere are some ways in which humans affect the enviro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pollution of power stations, cars, household rubbish, chemicals in the ground and water, sewage into the sea, waste, intensive (crowded) farming, over hunting, poaching, global warming,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or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o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conservation, animal welfare, walk, bike, recycling, reducing, re-using,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ore?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02b"/>
                </a:solidFill>
                <a:latin typeface="Arial Black"/>
              </a:rPr>
              <a:t>ENVIRONMENTAL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20C-960A-401C-848B-FAF67F5AA7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nibweb.co.uk/Jen%20Gr2.jpg"/>
          <p:cNvPicPr/>
          <p:nvPr/>
        </p:nvPicPr>
        <p:blipFill>
          <a:blip r:embed="rId1"/>
          <a:stretch/>
        </p:blipFill>
        <p:spPr>
          <a:xfrm>
            <a:off x="6084720" y="1700280"/>
            <a:ext cx="2872080" cy="324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epa.gov/espp/coloring/inback72.jpg"/>
          <p:cNvPicPr/>
          <p:nvPr/>
        </p:nvPicPr>
        <p:blipFill>
          <a:blip r:embed="rId2"/>
          <a:stretch/>
        </p:blipFill>
        <p:spPr>
          <a:xfrm>
            <a:off x="250920" y="2852640"/>
            <a:ext cx="2881080" cy="36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lubs.ntu.edu.sg/earthlink/images/Past/air01.jpg"/>
          <p:cNvPicPr/>
          <p:nvPr/>
        </p:nvPicPr>
        <p:blipFill>
          <a:blip r:embed="rId3"/>
          <a:stretch/>
        </p:blipFill>
        <p:spPr>
          <a:xfrm>
            <a:off x="4859280" y="5013360"/>
            <a:ext cx="2481480" cy="1643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ecoenquirer.com/global-warming-porn.jpg"/>
          <p:cNvPicPr/>
          <p:nvPr/>
        </p:nvPicPr>
        <p:blipFill>
          <a:blip r:embed="rId4"/>
          <a:stretch/>
        </p:blipFill>
        <p:spPr>
          <a:xfrm>
            <a:off x="1332000" y="1125360"/>
            <a:ext cx="2857320" cy="169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http://www.exeter.gov.uk/media/image/l/5/Waste_Delivery.jpg"/>
          <p:cNvPicPr/>
          <p:nvPr/>
        </p:nvPicPr>
        <p:blipFill>
          <a:blip r:embed="rId5"/>
          <a:stretch/>
        </p:blipFill>
        <p:spPr>
          <a:xfrm>
            <a:off x="3419640" y="3068640"/>
            <a:ext cx="2500200" cy="1684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02b"/>
                </a:solidFill>
                <a:latin typeface="Arial Black"/>
              </a:rPr>
              <a:t>ENVIRONMENTAL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AC4-6FD3-4BED-B398-449A720902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follow this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tools.net/my/dustbin78792types_of_geography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n the wiki if you want to look at it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498-C4CA-48A9-A2B6-A2E50D7249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week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get an email the day before, telling what you need to do. It will usually contain a classwork sheet to print off for th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Point and the homework will be in 2 places – in the school library and also in our wiki 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sgol-rhyngrwyd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is due in by 5pm on Friday. It is best to put it in the homework folder. But sometimes, if there are a lot of pictures in it, it will not up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you need to email it to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need any extra help or you need an extension, just let me know and I am sure we can sort someth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xpect to be nagged if it is late and you have not let me k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15E-24A5-4C31-AA2A-E757C5FC12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Black"/>
              </a:rPr>
              <a:t>How you use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already use Geography without knowing it. Here are some hea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50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50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tting 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50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50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 about physical geography, human geography and environmental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use Geography for these activ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4CC-6321-4048-A4BF-BE5D18B396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Black"/>
              </a:rPr>
              <a:t>In Geography we ask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plac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y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happe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d it/will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ing what?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eing aff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happe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we try to answer them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A6D-2685-44F5-836E-7E8D404CEE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143000"/>
            <a:ext cx="142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re ?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n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y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o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w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news.bbc.co.uk/nol/shared/bsp/hi/americas/07/miss_bridge/img/min_bridge.gif"/>
          <p:cNvPicPr/>
          <p:nvPr/>
        </p:nvPicPr>
        <p:blipFill>
          <a:blip r:embed="rId1"/>
          <a:stretch/>
        </p:blipFill>
        <p:spPr>
          <a:xfrm>
            <a:off x="4140360" y="-27000"/>
            <a:ext cx="5000400" cy="687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Boats and divers rescued the injured from the water, and looked for more survivors."/>
          <p:cNvPicPr/>
          <p:nvPr/>
        </p:nvPicPr>
        <p:blipFill>
          <a:blip r:embed="rId2"/>
          <a:stretch/>
        </p:blipFill>
        <p:spPr>
          <a:xfrm>
            <a:off x="1285920" y="2000160"/>
            <a:ext cx="2873160" cy="207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Section of collapsed bridge on Mississippi river at Minneapolis"/>
          <p:cNvPicPr/>
          <p:nvPr/>
        </p:nvPicPr>
        <p:blipFill>
          <a:blip r:embed="rId3"/>
          <a:stretch/>
        </p:blipFill>
        <p:spPr>
          <a:xfrm>
            <a:off x="1332000" y="3716280"/>
            <a:ext cx="2857320" cy="278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Collapsed bridge on Mississippi river at Minneapolis"/>
          <p:cNvPicPr/>
          <p:nvPr/>
        </p:nvPicPr>
        <p:blipFill>
          <a:blip r:embed="rId4"/>
          <a:stretch/>
        </p:blipFill>
        <p:spPr>
          <a:xfrm>
            <a:off x="1270080" y="0"/>
            <a:ext cx="287316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167-A459-46BB-A407-9925B66F12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1143000"/>
            <a:ext cx="142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re ?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n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y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o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w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Villagers in Sirajganj district"/>
          <p:cNvPicPr/>
          <p:nvPr/>
        </p:nvPicPr>
        <p:blipFill>
          <a:blip r:embed="rId1"/>
          <a:stretch/>
        </p:blipFill>
        <p:spPr>
          <a:xfrm>
            <a:off x="6516720" y="3141720"/>
            <a:ext cx="2627280" cy="371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Woman on a boat made of banana leaves"/>
          <p:cNvPicPr/>
          <p:nvPr/>
        </p:nvPicPr>
        <p:blipFill>
          <a:blip r:embed="rId2"/>
          <a:stretch/>
        </p:blipFill>
        <p:spPr>
          <a:xfrm>
            <a:off x="2071800" y="2857680"/>
            <a:ext cx="4732200" cy="400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Boat in inundated Kaziranga National Park in Assam, Northeast India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400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ycle rickshaw in flooded street in Dhaka"/>
          <p:cNvPicPr/>
          <p:nvPr/>
        </p:nvPicPr>
        <p:blipFill>
          <a:blip r:embed="rId4"/>
          <a:stretch/>
        </p:blipFill>
        <p:spPr>
          <a:xfrm>
            <a:off x="2071800" y="0"/>
            <a:ext cx="2357280" cy="32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337-C336-454C-91D3-24AE8E1C42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1143000"/>
            <a:ext cx="142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re ?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n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y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o ?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w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www.independent.co.uk/multimedia/archive/00253/frontpage040807_253024a.jpg"/>
          <p:cNvPicPr/>
          <p:nvPr/>
        </p:nvPicPr>
        <p:blipFill>
          <a:blip r:embed="rId1"/>
          <a:stretch/>
        </p:blipFill>
        <p:spPr>
          <a:xfrm>
            <a:off x="2143080" y="0"/>
            <a:ext cx="5288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876-FA91-4C4E-AB6A-38CAFC48C3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 your worksh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here you nee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F67-FBB0-419E-BA66-6E980EFCF4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75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th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9784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landud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ame of the town shown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describe the location of Llandud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843520" y="260280"/>
            <a:ext cx="3121200" cy="4802400"/>
            <a:chOff x="5843520" y="260280"/>
            <a:chExt cx="3121200" cy="4802400"/>
          </a:xfrm>
        </p:grpSpPr>
        <p:pic>
          <p:nvPicPr>
            <p:cNvPr id="110" name="uk" descr=""/>
            <p:cNvPicPr/>
            <p:nvPr/>
          </p:nvPicPr>
          <p:blipFill>
            <a:blip r:embed="rId1"/>
            <a:stretch/>
          </p:blipFill>
          <p:spPr>
            <a:xfrm>
              <a:off x="5843520" y="260280"/>
              <a:ext cx="312120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444440" y="33465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68360" y="3573360"/>
            <a:ext cx="5256000" cy="2951280"/>
          </a:xfrm>
          <a:prstGeom prst="rect">
            <a:avLst/>
          </a:prstGeom>
          <a:noFill/>
          <a:ln w="9360">
            <a:solidFill>
              <a:srgbClr val="006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2b"/>
                </a:solidFill>
                <a:latin typeface="Arial"/>
              </a:rPr>
              <a:t>Which one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A: Limited knowledge of U.K. geography. Limited use of geographical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B: Shows a sound knowledge of U.K. geography. Use of geographical language.</a:t>
            </a:r>
            <a:r>
              <a:rPr b="0" lang="en-US" sz="3200" spc="-1" strike="noStrike">
                <a:solidFill>
                  <a:srgbClr val="0060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357-6D37-4F85-9A59-FF372CB29C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2 pictures of Llandud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4797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many geographical questions can you think of? [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ere ?What ? When ? Why ? Who ? How ?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838080"/>
            <a:ext cx="540072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50920" y="2725560"/>
            <a:ext cx="5473800" cy="199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5805360"/>
            <a:ext cx="8229600" cy="792360"/>
          </a:xfrm>
          <a:prstGeom prst="rect">
            <a:avLst/>
          </a:prstGeom>
          <a:noFill/>
          <a:ln w="9360">
            <a:solidFill>
              <a:srgbClr val="006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2b"/>
                </a:solidFill>
                <a:latin typeface="Arial"/>
              </a:rPr>
              <a:t>Which one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A: Can think of 2 or 3 questions; B: More than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192-AF38-40A3-B8D1-5A60BE1463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2 pictures of Llandud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hysical features could you lab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[ A world without human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uman features could you lab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[ What is the evidence that man is here?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768240"/>
            <a:ext cx="5387760" cy="194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2679840"/>
            <a:ext cx="5400720" cy="197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56360" y="836640"/>
            <a:ext cx="2541600" cy="2521080"/>
          </a:xfrm>
          <a:prstGeom prst="rect">
            <a:avLst/>
          </a:prstGeom>
          <a:noFill/>
          <a:ln w="9360">
            <a:solidFill>
              <a:srgbClr val="006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2b"/>
                </a:solidFill>
                <a:latin typeface="Arial"/>
              </a:rPr>
              <a:t>Which one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A: Can think of 1 or 2 featur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02b"/>
                </a:solidFill>
                <a:latin typeface="Arial"/>
              </a:rPr>
              <a:t>B: More than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75E-9043-4F7A-AD3B-5CE7EACA60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sgol-rhyngrwyd.wikispaces.com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ll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sgol Rhyngrwyd KS3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will put copies of all the documents we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there will be other things in the wiki too – links to quizzes and games – links to interesting stuff for you to look 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lso a blog at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indym.wordpress.com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ed Coach House Geography – the front page is a regular blog, but there is a Year 7/8 page for stuff that only you n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46A-5F29-41F8-992F-6AA05A210B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will be do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ear will be divided up into 7 units and each year group will develop these unit more each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1: Intro (very short): Introduction and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2: Environmental conditions: Weather, climate and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3: The Human Situation: Settlement, population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4: Changing Earth: About what the earth is made of, volcanoes, earth quakes and how water sculpts the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5: Working World: About the jobs people do, International companies, aid and Fair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6: What are we doing to our World? The rain forests, climate change, energy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7: Is it sustainable? A chance to look at the current news to see what is changing and what needs to change, linking to what has been leant over the year – maybe revise a litt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B6E-FF8F-47A6-AAF1-326FBF1CA2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for the next 2 weeks, we will be looking at Uni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: Lesson 1: What is geograp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: Lesson 2: Where in the world is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0EA-313D-450F-8932-CEFB835340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http://edunet.iow.gov.uk/curriculum/post16%5Cgeography/images/Geography00.png"/>
          <p:cNvPicPr/>
          <p:nvPr/>
        </p:nvPicPr>
        <p:blipFill>
          <a:blip r:embed="rId1"/>
          <a:stretch/>
        </p:blipFill>
        <p:spPr>
          <a:xfrm>
            <a:off x="108000" y="981000"/>
            <a:ext cx="8785080" cy="5429160"/>
          </a:xfrm>
          <a:prstGeom prst="rect">
            <a:avLst/>
          </a:prstGeom>
          <a:ln w="0">
            <a:noFill/>
          </a:ln>
        </p:spPr>
      </p:pic>
      <p:pic>
        <p:nvPicPr>
          <p:cNvPr id="54" name="Group 11" descr=""/>
          <p:cNvPicPr/>
          <p:nvPr/>
        </p:nvPicPr>
        <p:blipFill>
          <a:blip r:embed="rId2"/>
          <a:stretch/>
        </p:blipFill>
        <p:spPr>
          <a:xfrm>
            <a:off x="103320" y="115920"/>
            <a:ext cx="8864640" cy="279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1E7-4012-4F9C-8AFC-DC47C88096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Arial Black"/>
              </a:rPr>
              <a:t>What is Geograp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WORD type 3 things that you think Geography i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your partner use the private text to shar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which are the 3 bes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X and Y: Our 3 ideas are …(you can paste from your private text your 3 b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5EF-5886-4932-9102-42E35BF490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ography is the study of the Earth’s landscapes, peoples, places and environments. It is, quite simply, about the world in which we liv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534-7DDF-4DE0-AF5F-F8E18A2E96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d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Black"/>
              </a:rPr>
              <a:t>There are 3 Types of 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Diagram 5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94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B64-E170-42E4-8910-BCF1E6AB6C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4:27:13Z</dcterms:created>
  <dc:creator>Lindy</dc:creator>
  <dc:description/>
  <dc:language>en-US</dc:language>
  <cp:lastModifiedBy>Lindy</cp:lastModifiedBy>
  <dcterms:modified xsi:type="dcterms:W3CDTF">2008-08-12T23:09:41Z</dcterms:modified>
  <cp:revision>8</cp:revision>
  <dc:subject/>
  <dc:title>Slide 1</dc:title>
</cp:coreProperties>
</file>